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580-7406-4106-A188-627546CB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F38-60E1-411A-82DE-7181D443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247C-CE97-411E-BD03-A0E67777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8A3-5F91-4B16-9BEB-D9927E75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0538-3345-4988-868B-D40DAF0B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BC4C-6D39-40D2-8A95-0E322605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1F52-BA4A-40B1-B065-940A4BEA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4EC2-57C1-45A4-88A8-E22864D0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D4FE-8DEE-4104-8CA3-419198EF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C29C-7AF3-4C0D-AC57-4BD546CB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EF59-4DBF-45E0-B370-86DA2DA2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316-1457-4FB0-AA0C-E4721E10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A7C8-0447-487F-B1D3-5318AE52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029C-FE5B-4BAE-8F9E-C2BC0E8D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6C7D-1075-4732-8A8C-0726FF4A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2806-23A0-437D-9B70-D70645A0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C570-03F3-417D-90FB-BCD97CC2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5EE3D-6991-4887-AA4D-97333DFE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1E065-75BB-4410-92D8-8E4B7E56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136A4-D6AD-4D93-9158-65B92308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C7F97-04B7-4035-9027-337EA147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EBC31-D6CB-425A-B86D-9EC57E01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1B9D-C795-4EEC-B2D7-26697EFD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CF557-A5A7-453D-B4D8-27E53E03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4B877-E629-4C72-8F50-AD97747E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02BA2-DBBA-4933-BE7D-4172BEC0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90F7E-5983-4EE9-A588-75ADEAE7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11E6D-4D58-4403-956A-B7AE46DA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EABF8-2705-42F4-B73A-54C4A0C8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4D93A-1C75-498A-94BB-D25E8E9D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AE22F-BC89-442D-84FD-FCE01811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57C6C-223C-4B83-8167-2E89059B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C0808-94C2-4C83-8EA1-E5D6CEA1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B37-0EF9-4241-8B3C-C5A0F385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71E16-C995-4EDB-B005-577A124A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0FECA-64E1-4FBF-B366-02F2C46E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90C0F-1341-4368-89C6-BEDBD917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86468-9559-4B88-A92B-4908A63F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E10F9-2458-44E7-B262-36BD7D0B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242D8-E65C-4C17-B419-812F09E5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2B16D-1C11-458F-9E2D-CA4088A9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60EFE-CC8A-46DD-B791-3174F7CF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B436B-A068-450A-9CA2-D93ED0F2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98370-0E16-4217-8310-1565A12F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EBBB-AA33-4AF0-ABF2-3CFC0C7C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20B64-88EB-4958-940F-DC52FD13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A9661-2D05-404F-993D-0EDDA2F0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ED7E9-E223-4344-A8C7-F4794B10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9313E-04D7-4908-99AE-8FF2477A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435DC-BBAE-4244-B2F3-030B3070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3E0C9-9985-4784-8A54-211424CE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346AC-280C-47E6-BCAA-D71FADCE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AA6DE-9CDB-4F79-99BD-2BBF9A77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76519-7715-4207-B1BF-4F176140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45BE4-5DFC-44F1-A7E3-490AAD01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18B4-2DAF-4091-93BA-FE364B53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002F5-ECA0-4D59-AC49-9CCEFA60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CD2C-660E-4292-AF67-404648CA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DECE-8CF1-45CA-9D25-921B5892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7095-E245-4DE0-B6DE-78F4170C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DBFC-4ACB-4054-9634-8D3453F6C1A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3EAB-E8F7-46F2-A3CE-07479B47667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Oval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BBA6-BE5F-483B-AB79-0381118E261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3927-73F3-43EE-B53A-CCC15E6E49E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Rectangle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2CEA-1329-41DF-B622-7895BF6058C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. 36 Warm-U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escribe the process of how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 gets into the plant and up to the leave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mpare and contras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ill Sans MT"/>
              </a:rPr>
              <a:t>apoplastic flow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ill Sans MT"/>
              </a:rPr>
              <a:t>symplastic flow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xplain the mass flow of materials in the phloem (source to sink)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36_07Turgor_UP"/>
          <p:cNvPicPr/>
          <p:nvPr/>
        </p:nvPicPr>
        <p:blipFill>
          <a:blip r:embed="rId1"/>
          <a:stretch/>
        </p:blipFill>
        <p:spPr>
          <a:xfrm>
            <a:off x="1828800" y="380880"/>
            <a:ext cx="5905440" cy="52200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5040" y="5867280"/>
            <a:ext cx="7497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2314"/>
                </a:solidFill>
                <a:latin typeface="Gill Sans MT"/>
              </a:rPr>
              <a:t>A watered </a:t>
            </a:r>
            <a:r>
              <a:rPr b="0" i="1" lang="en-US" sz="2400" spc="-1" strike="noStrike">
                <a:solidFill>
                  <a:srgbClr val="572314"/>
                </a:solidFill>
                <a:latin typeface="Gill Sans MT"/>
              </a:rPr>
              <a:t>impatiens</a:t>
            </a:r>
            <a:r>
              <a:rPr b="0" lang="en-US" sz="2400" spc="-1" strike="noStrike">
                <a:solidFill>
                  <a:srgbClr val="572314"/>
                </a:solidFill>
                <a:latin typeface="Gill Sans MT"/>
              </a:rPr>
              <a:t> plant regains its turgor.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6091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72314"/>
                </a:solidFill>
                <a:uFillTx/>
                <a:latin typeface="Gill Sans MT"/>
              </a:rPr>
              <a:t>Vascular Tissues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: conduct molecules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295280" y="1828800"/>
          <a:ext cx="7499520" cy="399096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97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Xyl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hlo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nliving funct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iving funct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ylem sap = 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 &amp; miner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hloem sap = sucrose, minerals, amino acids, horm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urce to s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sugar made) to (sugar consumed/stor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57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Transport of H</a:t>
            </a:r>
            <a:r>
              <a:rPr b="0" lang="en-US" sz="2800" spc="-1" strike="noStrike" baseline="-25000">
                <a:solidFill>
                  <a:srgbClr val="572314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O and minerals into xylem: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066680" y="990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oot epidermi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cortex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[Casparian Strip]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vascular cylinde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xylem tissu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shoot syst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6" name="Picture 31" descr="36_10_RootHairsToXylem-L.jpg"/>
          <p:cNvPicPr/>
          <p:nvPr/>
        </p:nvPicPr>
        <p:blipFill>
          <a:blip r:embed="rId1"/>
          <a:stretch/>
        </p:blipFill>
        <p:spPr>
          <a:xfrm>
            <a:off x="2209680" y="2209680"/>
            <a:ext cx="556272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3" descr="_x0017_36_10Mycorrhizae_UP.jpg                                        0002A27C&#10;CS1-Vol.07                     BD7D9C21:"/>
          <p:cNvPicPr/>
          <p:nvPr/>
        </p:nvPicPr>
        <p:blipFill>
          <a:blip r:embed="rId1"/>
          <a:stretch/>
        </p:blipFill>
        <p:spPr>
          <a:xfrm>
            <a:off x="5259240" y="3811680"/>
            <a:ext cx="3351240" cy="28177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t Root Epidermi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Root hai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increase surface area of absorption at root tip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Mycorrhiza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symbiotic relationship between fungus + roo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ase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/mineral absorp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1143000" y="59072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hite mycelium of the fungus ensheathes these roots of a pine tre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5" descr="36_06ShortDistanceTrans-L.jpg"/>
          <p:cNvPicPr/>
          <p:nvPr/>
        </p:nvPicPr>
        <p:blipFill>
          <a:blip r:embed="rId1"/>
          <a:stretch/>
        </p:blipFill>
        <p:spPr>
          <a:xfrm>
            <a:off x="838080" y="2641680"/>
            <a:ext cx="7709040" cy="42163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2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Arial"/>
              </a:rPr>
              <a:t>Transport pathways across Cortex: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914400"/>
            <a:ext cx="84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opl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aterials travel between ce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ympl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aterials cross cell membrane, move through cytosol &amp; plasmodesma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8960" y="122040"/>
            <a:ext cx="749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ntry into Vascular Cylinder: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371600" y="83808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Endoderm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inner layer of cortex) sealed by </a:t>
            </a:r>
            <a:r>
              <a:rPr b="1" i="1" lang="en-US" sz="2600" spc="-1" strike="noStrike">
                <a:solidFill>
                  <a:srgbClr val="ff0000"/>
                </a:solidFill>
                <a:latin typeface="Gill Sans MT"/>
              </a:rPr>
              <a:t>Casparian strip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(waxy material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locks passage of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 and minera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materials absorbed from roots enter xylem through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selectively permeable membra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Symplas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ntry only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6" name="Picture 31" descr="36_10_RootHairsToXylem-L.jpg"/>
          <p:cNvPicPr/>
          <p:nvPr/>
        </p:nvPicPr>
        <p:blipFill>
          <a:blip r:embed="rId1"/>
          <a:stretch/>
        </p:blipFill>
        <p:spPr>
          <a:xfrm>
            <a:off x="3048120" y="3505320"/>
            <a:ext cx="4197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How does material move vertically (against gravity)?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428640" y="1523880"/>
            <a:ext cx="5715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57888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050"/>
                </a:solidFill>
                <a:uFillTx/>
                <a:latin typeface="Gill Sans MT"/>
              </a:rPr>
              <a:t>Transpiratio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loss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 via evaporation from leaves into ai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7888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78880" indent="-4989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ot pressure 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(least importan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15760" indent="-49896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ffusion into root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push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ap u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8880" indent="-4989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Cohesion-tension hypo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78880" indent="-498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iration provides pu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8880" indent="-498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hesion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 transmits pull from root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oo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78880" indent="-4989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9" name="Picture 2" descr="http://fig.cox.miami.edu/Faculty/Dana/potential.jpg"/>
          <p:cNvPicPr/>
          <p:nvPr/>
        </p:nvPicPr>
        <p:blipFill>
          <a:blip r:embed="rId1"/>
          <a:stretch/>
        </p:blipFill>
        <p:spPr>
          <a:xfrm>
            <a:off x="228600" y="1523880"/>
            <a:ext cx="317340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36_13_XylemSapAscent-L.jpg"/>
          <p:cNvPicPr/>
          <p:nvPr/>
        </p:nvPicPr>
        <p:blipFill>
          <a:blip r:embed="rId1"/>
          <a:stretch/>
        </p:blipFill>
        <p:spPr>
          <a:xfrm>
            <a:off x="298440" y="136440"/>
            <a:ext cx="854712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219320" y="304560"/>
            <a:ext cx="761976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Guttatio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exudation of water droplets seen in morning (not dew), caused by root pressu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2" name="Picture 2" descr="36_11Guttation_UP"/>
          <p:cNvPicPr/>
          <p:nvPr/>
        </p:nvPicPr>
        <p:blipFill>
          <a:blip r:embed="rId1"/>
          <a:stretch/>
        </p:blipFill>
        <p:spPr>
          <a:xfrm>
            <a:off x="2057400" y="19810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Stomata regulate rate of transpiration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066320" y="76176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tomat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pores in epidermis of leaves/stems, allow gas exchange and transpi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Guard cell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open/close stoma by changing sha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ake up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lower 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ψ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take up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pore ope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ose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ill Sans MT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lose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cells less bowe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pore clos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5" name="Content Placeholder 5" descr="36_15bStomatalMechanisms-L.jpg"/>
          <p:cNvPicPr/>
          <p:nvPr/>
        </p:nvPicPr>
        <p:blipFill>
          <a:blip r:embed="rId1"/>
          <a:stretch/>
        </p:blipFill>
        <p:spPr>
          <a:xfrm>
            <a:off x="2209680" y="3117960"/>
            <a:ext cx="533880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. 36 Warm-U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hat is transpiration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hat are mycorrhizae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hat is the function of the Casparian strip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218960" y="761760"/>
            <a:ext cx="7499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ells stimulated </a:t>
            </a:r>
            <a:r>
              <a:rPr b="0" lang="en-US" sz="2800" spc="-1" strike="noStrike">
                <a:solidFill>
                  <a:srgbClr val="00b050"/>
                </a:solidFill>
                <a:latin typeface="Gill Sans MT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by: light, loss of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 leaf, circadian rhyth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omata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losur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drought, high temperature, win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7" name="Picture 45" descr="_x0013_36_14Stomata_UP.jpg                                            0002A27C&#10;CS1-Vol.07                     BD7D9C21:"/>
          <p:cNvPicPr/>
          <p:nvPr/>
        </p:nvPicPr>
        <p:blipFill>
          <a:blip r:embed="rId1"/>
          <a:stretch/>
        </p:blipFill>
        <p:spPr>
          <a:xfrm>
            <a:off x="1295280" y="3200400"/>
            <a:ext cx="7540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BIOFLIX: WATER TRANSPORT IN PLANT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ugar Transpor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447560" y="15235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Translocatio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ransport of sugars into phloem by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pressure flo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urce = produce sugar (photosynthesi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nk = consume/store sugar (fruit, root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sieve-tube ele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tive transport of sucro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629040" y="685440"/>
            <a:ext cx="2133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Bulk flow in a sieve tub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3" name="Content Placeholder 3" descr="36_18BulkFlow-L.jpg"/>
          <p:cNvPicPr/>
          <p:nvPr/>
        </p:nvPicPr>
        <p:blipFill>
          <a:blip r:embed="rId1"/>
          <a:stretch/>
        </p:blipFill>
        <p:spPr>
          <a:xfrm>
            <a:off x="457200" y="0"/>
            <a:ext cx="628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ymplast is dynami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lasmodesmata allows movement of RNA &amp; proteins between ce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hloem can carry rapid, long-distance electrical signal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rve-like fun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wift commun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nges in gene expression, respiration, photosyn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1720" y="228600"/>
            <a:ext cx="7407000" cy="93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apter 3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431720" y="118440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Resource Acquisition and Transport in Vascular Pla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3" name="Picture 2" descr="36_01Redwoods_UP"/>
          <p:cNvPicPr/>
          <p:nvPr/>
        </p:nvPicPr>
        <p:blipFill>
          <a:blip r:embed="rId1"/>
          <a:stretch/>
        </p:blipFill>
        <p:spPr>
          <a:xfrm>
            <a:off x="1905120" y="2057400"/>
            <a:ext cx="624816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you need to know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role of passive transport, active transport, and cotransport in plant transpor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role of diffusion, active transport, and bulk flow in the movement of water and nutrients in plant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he transpiration cohesion-tension mechanism explain water movement in plant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pressure flow explains translocat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943600" y="1142640"/>
            <a:ext cx="298440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What does a plant need?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267" name="Content Placeholder 3" descr="36_02TrasnsportOverview_3-L.jpg"/>
          <p:cNvPicPr/>
          <p:nvPr/>
        </p:nvPicPr>
        <p:blipFill>
          <a:blip r:embed="rId1"/>
          <a:stretch/>
        </p:blipFill>
        <p:spPr>
          <a:xfrm>
            <a:off x="380880" y="115920"/>
            <a:ext cx="551196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view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Selectively permeable membran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osmosis, transport proteins, selective channe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Proton pum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active transport; uses E to pump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ut of cel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ton gradi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otranspor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coupl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iffusion with sucrose trans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Aquapori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ransport protein which controls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 uptake/l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2" descr="36_07_SoluteTransport-L.jpg"/>
          <p:cNvPicPr/>
          <p:nvPr/>
        </p:nvPicPr>
        <p:blipFill>
          <a:blip r:embed="rId1"/>
          <a:stretch/>
        </p:blipFill>
        <p:spPr>
          <a:xfrm>
            <a:off x="660240" y="0"/>
            <a:ext cx="566424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638320" y="3855600"/>
            <a:ext cx="350532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olute transport across plant cell plasma membran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Osmosi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434960" y="1066680"/>
            <a:ext cx="749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**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Water potential (</a:t>
            </a:r>
            <a:r>
              <a:rPr b="0" lang="el-GR" sz="2600" spc="-1" strike="noStrike" u="sng">
                <a:solidFill>
                  <a:srgbClr val="000000"/>
                </a:solidFill>
                <a:uFillTx/>
                <a:latin typeface="Corbel"/>
              </a:rPr>
              <a:t>ψ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 moves from high 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ψ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low 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ψ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potential, solute conc. &amp; pressu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ter potential equation:  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ψ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= 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ψ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ψ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lute potential (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ψ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) – osmotic potenti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essure potential (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ψ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) – physical pressure on solu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re water: 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ψ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= 0 Mp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Ψ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s always negative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70c0"/>
                </a:solidFill>
                <a:latin typeface="Gill Sans MT"/>
              </a:rPr>
              <a:t>Turgor pressure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= force on cell wal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Bulk flow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move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 in plant from regions of high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low pressu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Gill Sans MT"/>
              </a:rPr>
              <a:t>** Review AP Bio Investigation 4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434960" y="5331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Flacci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limp (wilt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Plasmolyz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shrink, pull away from cell wall (kills most plant cells) due to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 l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Turgi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firm (healthy plan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5" name="Picture 2" descr="http://mason.gmu.edu/~jlawrey/biol304/biol304/elodea%20plasmolyzed.jpg"/>
          <p:cNvPicPr/>
          <p:nvPr/>
        </p:nvPicPr>
        <p:blipFill>
          <a:blip r:embed="rId1"/>
          <a:stretch/>
        </p:blipFill>
        <p:spPr>
          <a:xfrm>
            <a:off x="6821640" y="3255840"/>
            <a:ext cx="2090520" cy="2668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http://mason.gmu.edu/~jlawrey/biol304/biol304/elodea%20turgid.jpg"/>
          <p:cNvPicPr/>
          <p:nvPr/>
        </p:nvPicPr>
        <p:blipFill>
          <a:blip r:embed="rId2"/>
          <a:stretch/>
        </p:blipFill>
        <p:spPr>
          <a:xfrm>
            <a:off x="493560" y="3255840"/>
            <a:ext cx="2036880" cy="26384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http://leavingbio.net/OSMOSIS%20AND%20DIFFUSION_files/image021.gif"/>
          <p:cNvPicPr/>
          <p:nvPr/>
        </p:nvPicPr>
        <p:blipFill>
          <a:blip r:embed="rId3"/>
          <a:stretch/>
        </p:blipFill>
        <p:spPr>
          <a:xfrm>
            <a:off x="2743200" y="3352680"/>
            <a:ext cx="3809880" cy="247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8" name="TextBox 7"/>
          <p:cNvSpPr/>
          <p:nvPr/>
        </p:nvSpPr>
        <p:spPr>
          <a:xfrm>
            <a:off x="403200" y="5869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gid Plan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8"/>
          <p:cNvSpPr/>
          <p:nvPr/>
        </p:nvSpPr>
        <p:spPr>
          <a:xfrm>
            <a:off x="6705720" y="5867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m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1:46:10Z</dcterms:created>
  <dc:creator>Chris Nancy Chou</dc:creator>
  <dc:description/>
  <dc:language>en-US</dc:language>
  <cp:lastModifiedBy>Chris Nancy Chou</cp:lastModifiedBy>
  <dcterms:modified xsi:type="dcterms:W3CDTF">2013-04-18T07:46:20Z</dcterms:modified>
  <cp:revision>46</cp:revision>
  <dc:subject/>
  <dc:title>Warm-Up</dc:title>
</cp:coreProperties>
</file>